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295-7979-4E84-A9C9-496236A9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90D-9770-48AF-BB88-CA6A4CD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345-1D3C-4F1F-83DF-5EF7104F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46D-0783-4032-A996-11B770CD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A5C-D3C4-48E4-8AD6-1BADE50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124-2C18-49C9-84BD-813DD23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CF5-DADA-454A-9980-966F682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FDA-073B-4856-924B-A3C076F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8CA-AB35-4836-926A-1D8A4C00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301-63BF-4E0F-BB75-3B9975A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8FC-5CFB-4895-B135-56D43F1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675-A203-4BA0-881C-54CFFE7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D74B-82FE-422A-A42B-E768F528A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тографии 1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281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лектролитическая диссоциация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акции ионного об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3886200"/>
            <a:ext cx="864216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>
            <a:off x="1428840" y="501660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758520"/>
            <a:ext cx="784692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 мол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щее число моль образующихся ионов рав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72840" y="3071520"/>
            <a:ext cx="1654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6"/>
          <p:cNvSpPr/>
          <p:nvPr/>
        </p:nvSpPr>
        <p:spPr>
          <a:xfrm>
            <a:off x="1357200" y="427356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720" y="642600"/>
            <a:ext cx="86760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окращенном ионном уравнении реакции серной кислоты с гидроксидом натрия сумма коэффициентов равн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01920" y="3048120"/>
            <a:ext cx="17985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  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  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395280" y="484668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136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кращенное ионное уравнение реа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3OH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оответствует взаимодействию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901600"/>
            <a:ext cx="8064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 железа с гидроксидом натр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 железа с в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  хлорида железа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с гидрокси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и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 хлорида железа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с  гидрокси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7"/>
          <p:cNvSpPr/>
          <p:nvPr/>
        </p:nvSpPr>
        <p:spPr>
          <a:xfrm>
            <a:off x="5148360" y="3181320"/>
            <a:ext cx="71892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250920" y="4643280"/>
            <a:ext cx="718920" cy="93528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076720" y="528624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50920" y="3900600"/>
            <a:ext cx="718920" cy="9349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5076720" y="390060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250920" y="3181320"/>
            <a:ext cx="7207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685440"/>
            <a:ext cx="84614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тановите соответствие между сокращенными ионными уравнениями реакций обмена и веществами, вступающими в реакц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3324240"/>
            <a:ext cx="460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 C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Ca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 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 B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Ba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19280" y="3324240"/>
            <a:ext cx="36673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BaC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NaOH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Ba(OH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8"/>
          <p:cNvSpPr/>
          <p:nvPr/>
        </p:nvSpPr>
        <p:spPr>
          <a:xfrm>
            <a:off x="4675320" y="3683160"/>
            <a:ext cx="71892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675320" y="5556240"/>
            <a:ext cx="718920" cy="934920"/>
          </a:xfrm>
          <a:prstGeom prst="irregularSeal1">
            <a:avLst/>
          </a:prstGeom>
          <a:solidFill>
            <a:srgbClr val="0099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4748040" y="3035160"/>
            <a:ext cx="719280" cy="935280"/>
          </a:xfrm>
          <a:prstGeom prst="irregularSeal1">
            <a:avLst/>
          </a:prstGeom>
          <a:solidFill>
            <a:srgbClr val="00ff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748040" y="497988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608040" y="548316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608040" y="4691160"/>
            <a:ext cx="719280" cy="934920"/>
          </a:xfrm>
          <a:prstGeom prst="irregularSeal1">
            <a:avLst/>
          </a:prstGeom>
          <a:solidFill>
            <a:srgbClr val="00ff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608040" y="3683160"/>
            <a:ext cx="719280" cy="934920"/>
          </a:xfrm>
          <a:prstGeom prst="irregularSeal1">
            <a:avLst/>
          </a:prstGeom>
          <a:solidFill>
            <a:srgbClr val="0099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08040" y="2963880"/>
            <a:ext cx="71928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731520"/>
            <a:ext cx="89298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тановите соответствие между классами исходных веществ, вступающих в реакции обмена, и сокращенными ионными уравнениями этих реакц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8960" y="3179880"/>
            <a:ext cx="34560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Кислота и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Кислот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й окс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Кислота и 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Кислота и с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5520" y="3179520"/>
            <a:ext cx="4218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Z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) 2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N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 Ag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) С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360" y="691920"/>
            <a:ext cx="338436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Спасибо за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фиалка2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"/>
          <p:cNvSpPr/>
          <p:nvPr/>
        </p:nvSpPr>
        <p:spPr>
          <a:xfrm>
            <a:off x="1428840" y="342900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электролитам относи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01920" y="1916280"/>
            <a:ext cx="280656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1428840" y="421956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138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электролитам не относи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0920" y="1928880"/>
            <a:ext cx="2662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BaCl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n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C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6"/>
          <p:cNvSpPr/>
          <p:nvPr/>
        </p:nvSpPr>
        <p:spPr>
          <a:xfrm>
            <a:off x="1357200" y="344340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63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ильный электролит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91840" y="1928520"/>
            <a:ext cx="26622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6"/>
          <p:cNvSpPr/>
          <p:nvPr/>
        </p:nvSpPr>
        <p:spPr>
          <a:xfrm>
            <a:off x="1500120" y="4651200"/>
            <a:ext cx="71928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ым электролитом является раствор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1760" y="2357280"/>
            <a:ext cx="237312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H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6"/>
          <p:cNvSpPr/>
          <p:nvPr/>
        </p:nvSpPr>
        <p:spPr>
          <a:xfrm>
            <a:off x="1494000" y="247644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о, при диссоциации которого образуются силикат-ио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0520" y="2536560"/>
            <a:ext cx="280692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K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"/>
          <p:cNvSpPr/>
          <p:nvPr/>
        </p:nvSpPr>
        <p:spPr>
          <a:xfrm>
            <a:off x="1428840" y="4805280"/>
            <a:ext cx="71892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10108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о, при диссоциации которого образуются катионы цин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9760" y="2500200"/>
            <a:ext cx="2949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  Zn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 Z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 Zn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  Zn(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6"/>
          <p:cNvSpPr/>
          <p:nvPr/>
        </p:nvSpPr>
        <p:spPr>
          <a:xfrm>
            <a:off x="1500120" y="3573360"/>
            <a:ext cx="71928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79916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 моль 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щее число моль образующихся ионов рав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44120" y="3068280"/>
            <a:ext cx="1654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6"/>
          <p:cNvSpPr/>
          <p:nvPr/>
        </p:nvSpPr>
        <p:spPr>
          <a:xfrm>
            <a:off x="1500120" y="383868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555480"/>
            <a:ext cx="83185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 моль ортофосфата натрия образуетс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1400" y="2685600"/>
            <a:ext cx="3957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 моль ион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33:28Z</dcterms:modified>
  <cp:revision>9</cp:revision>
  <dc:subject/>
  <dc:title>PowerPoint Presentation</dc:title>
</cp:coreProperties>
</file>